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9743-F4A9-4FAF-9DE9-F8F49467D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83AC-4D98-4848-81D6-D97D67FCC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E69B-42F8-4442-968F-DD478D091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7291-8E75-4751-B7F8-0546C5AAB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16E7-CFBC-4B8F-B526-F073D6B21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B206-B1DB-4215-9036-BCEDB9861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BC02-FAD4-41BB-B6AD-974E69885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29DF-CCDD-477C-9AF2-52B8EBB63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D743-A5EB-465C-B75B-1F92E7EA6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9FA9-E643-4ACB-B0D0-6A195E9F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FB40-FD9D-4F74-A609-27E5F028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A304-D836-44AA-9077-C2C667E2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E9F09-5239-485A-971A-5F13CE18F0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can matter be changed?</a:t>
            </a:r>
            <a:r>
              <a:rPr b="1" lang="en-US" sz="4400" spc="-1" strike="noStrike">
                <a:solidFill>
                  <a:srgbClr val="000000"/>
                </a:solidFill>
                <a:latin typeface="Ackbar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do the sun's position and the earth’s axis and revolution cause seasons?</a:t>
            </a:r>
            <a:r>
              <a:rPr b="1" lang="en-US" sz="4400" spc="-1" strike="noStrike">
                <a:solidFill>
                  <a:srgbClr val="000000"/>
                </a:solidFill>
                <a:latin typeface="Ackbar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Why are there four seasons?</a:t>
            </a:r>
            <a:r>
              <a:rPr b="1" lang="en-US" sz="4400" spc="-1" strike="noStrike">
                <a:solidFill>
                  <a:srgbClr val="000000"/>
                </a:solidFill>
                <a:latin typeface="Ackbar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Why do the seasons occur at opposite times in the northern and southern hemispher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Why are the seasons of winter, spring, summer, and fall not in areas along the Equator?</a:t>
            </a:r>
            <a:r>
              <a:rPr b="1" lang="en-US" sz="4400" spc="-1" strike="noStrike">
                <a:solidFill>
                  <a:srgbClr val="000000"/>
                </a:solidFill>
                <a:latin typeface="Ackbar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What are some of the differences and/or similarities between the seaso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do seasons affect the life cycles of living things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are changes in day/night length related to seasonal changes in plants, animals, and fungi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Where do light, heat, and motion energy come from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can we detect the presence of light energy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can we detect the presence of heat energy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What are the properties of matter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can we detect the presence of motion energy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do we use the energy of motion, heat, and light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What makes things move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can you move something farth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Why are forces needed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is push like a pull? Different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Where is it easier to pull thing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What surfaces make moving things easier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is speed affected by push and pull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Why does speed change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do we classify matter?</a:t>
            </a:r>
            <a:r>
              <a:rPr b="1" lang="en-US" sz="4400" spc="-1" strike="noStrike">
                <a:solidFill>
                  <a:srgbClr val="000000"/>
                </a:solidFill>
                <a:latin typeface="Ackbar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Why is gravity important in our daily lif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can motion be described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can you use forces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Why does the sun shine during the day, but is not there at night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Why does the sun appear to move across the sky from east to west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are shadows on Earth affected by the Sun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does the Sun's changing position change shadows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Why does the moon appear to move across the sky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What causes the moon to appear to change shapes each month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does the moon get its light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do we describe mat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is the moon a satellite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does the Earth's shadow affect the mo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does a sundial work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What happens to the length of the day and night as the seasons chang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What are the difference and similarities between plants, animals, and fungi?</a:t>
            </a:r>
            <a:r>
              <a:rPr b="1" lang="en-US" sz="4400" spc="-1" strike="noStrike">
                <a:solidFill>
                  <a:srgbClr val="000000"/>
                </a:solidFill>
                <a:latin typeface="Ackbar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does a living thing go through a life cycle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are life cycles different between organisms?</a:t>
            </a:r>
            <a:r>
              <a:rPr b="1" lang="en-US" sz="4400" spc="-1" strike="noStrike">
                <a:solidFill>
                  <a:srgbClr val="000000"/>
                </a:solidFill>
                <a:latin typeface="Ackbar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does a plant develop from a small seed?</a:t>
            </a:r>
            <a:r>
              <a:rPr b="1" lang="en-US" sz="4400" spc="-1" strike="noStrike">
                <a:solidFill>
                  <a:srgbClr val="000000"/>
                </a:solidFill>
                <a:latin typeface="Ackbar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do seasons affect the life cycles of living things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are changes in day/night length related to seasonal changes in plants and animals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do changes affect matter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What are some of the ways matter can change?</a:t>
            </a:r>
            <a:r>
              <a:rPr b="1" lang="en-US" sz="4400" spc="-1" strike="noStrike">
                <a:solidFill>
                  <a:srgbClr val="000000"/>
                </a:solidFill>
                <a:latin typeface="Ackbar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can water be a solid, liquid, and a gas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can we measure and predict changes in weather?</a:t>
            </a:r>
            <a:r>
              <a:rPr b="1" lang="en-US" sz="4400" spc="-1" strike="noStrike">
                <a:solidFill>
                  <a:srgbClr val="000000"/>
                </a:solidFill>
                <a:latin typeface="Ackbar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can the Sun cause Earth’s weather?</a:t>
            </a:r>
            <a:r>
              <a:rPr b="1" lang="en-US" sz="4400" spc="-1" strike="noStrike">
                <a:solidFill>
                  <a:srgbClr val="000000"/>
                </a:solidFill>
                <a:latin typeface="Ackbar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7T23:59:04Z</dcterms:created>
  <dc:creator>Abby Owens</dc:creator>
  <dc:description/>
  <dc:language>en-US</dc:language>
  <cp:lastModifiedBy>Abby Owens</cp:lastModifiedBy>
  <dcterms:modified xsi:type="dcterms:W3CDTF">2010-05-28T00:18:30Z</dcterms:modified>
  <cp:revision>38</cp:revision>
  <dc:subject/>
  <dc:title>PowerPoint Presentation</dc:title>
</cp:coreProperties>
</file>